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DFA-D90F-418E-9C00-01548D72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B1B-3EEC-4F7D-AD4B-75F049E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20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C42-C6FD-43B0-991F-E1F31FBD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300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320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300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320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33C-B141-4429-8E25-5D1F925B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892-B12C-4398-9C8E-334DA1F6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6720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6720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300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3200" y="114264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300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3200" y="3849120"/>
            <a:ext cx="272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33C-C684-4F05-A648-FA165C70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D19-C56B-4549-A0AE-7AC474E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6A-649D-4DE6-831A-2B9E8B6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8C-286F-412F-A0EF-6882429A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C84-E6B8-471F-9402-33F9F61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200" y="384912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85B-3F12-4BAD-9D0A-F6275F3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200" y="1142640"/>
            <a:ext cx="412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849120"/>
            <a:ext cx="8458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D61-5FD1-485A-BDD8-15C1B0F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336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9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9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195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195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195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866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160" y="6476760"/>
            <a:ext cx="6553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3726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65FF-53D9-4253-B4DD-7A9BB1931B34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336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80880" y="640044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cccc"/>
                </a:solidFill>
                <a:latin typeface="Tahoma"/>
              </a:rPr>
              <a:t>A Very Forward Proton</a:t>
            </a:r>
            <a:br>
              <a:rPr sz="4400"/>
            </a:br>
            <a:r>
              <a:rPr b="0" lang="en-GB" sz="4400" spc="-1" strike="noStrike">
                <a:solidFill>
                  <a:srgbClr val="33cccc"/>
                </a:solidFill>
                <a:latin typeface="Tahoma"/>
              </a:rPr>
              <a:t>Spectrometer for H1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ierre Van Mechel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Universiteit Antwerpen (UIA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Acceptance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imulation includes detailed description of beam pip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ERA machine crew agreed to steer proton beam away from critical acceptance lo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etectors approach beam up to “12-sigma” from inside HERA ring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+ 3 mm “coasting beam margin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cceptance rang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5029200"/>
          <a:ext cx="5545080" cy="135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029200"/>
                    <a:ext cx="5545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vfpsacc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095880" y="380880"/>
            <a:ext cx="2880000" cy="288000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150" name="fpsacc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6095880" y="3505320"/>
            <a:ext cx="2880000" cy="28796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Reconstruction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construction fit: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GB" sz="2200" spc="-1" strike="noStrike" baseline="-25000">
                <a:solidFill>
                  <a:srgbClr val="ffffff"/>
                </a:solidFill>
                <a:latin typeface="Tahoma"/>
              </a:rPr>
              <a:t>ij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is a covariance matrix containing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eam covari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bre detector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523880" y="4648320"/>
                <a:ext cx="6064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54" name="isodatatmp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371600" y="1143000"/>
            <a:ext cx="7215120" cy="28796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sophi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400800" y="1219320"/>
            <a:ext cx="2519280" cy="25192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156" name="resot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505320" y="1219320"/>
            <a:ext cx="2519280" cy="25192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157" name="resoxpom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609480" y="1219320"/>
            <a:ext cx="2519640" cy="25174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Resolution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solution is dominated by beam covariance (but still sensitive to fibre detector resolution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2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resolution is competitive with reconstruction of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2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by H1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~ 4 bins in |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~ 15 bins in </a:t>
            </a:r>
            <a:r>
              <a:rPr b="0" i="1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for |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| &gt; 0.2 GeV</a:t>
            </a:r>
            <a:r>
              <a:rPr b="0" lang="en-GB" sz="2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lative positioning of detectors versus nominal proton bea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xploit kinematic peak and </a:t>
            </a:r>
            <a:br>
              <a:rPr sz="2200"/>
            </a:b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200" spc="-1" strike="noStrike" baseline="-25000">
                <a:solidFill>
                  <a:srgbClr val="ffffff"/>
                </a:solidFill>
                <a:latin typeface="Tahoma"/>
              </a:rPr>
              <a:t>IP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-measurement by H1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alibration fit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lignment precision of ~100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 is feasi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lternative fits are possible with e.g. elastic </a:t>
            </a:r>
            <a:r>
              <a:rPr b="0" i="1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es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Alignment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3429000"/>
                <a:ext cx="396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sub>
                                  <m:sup>
                                    <m:r>
                                      <m:t xml:space="preserve">H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calirio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791320" y="304920"/>
            <a:ext cx="2879640" cy="28796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164" name="xdelta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433680" cy="28796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Expected Result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nclusive diffraction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uminosity: 350 pb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3 years of HERA-II running, 50% VFPS operation efficienc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st of hard scattering fact.:</a:t>
            </a:r>
            <a:br>
              <a:rPr sz="2000"/>
            </a:b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GB" sz="2000" spc="-1" strike="noStrike" baseline="30000">
                <a:solidFill>
                  <a:srgbClr val="ffffff"/>
                </a:solidFill>
                <a:latin typeface="Tahoma"/>
              </a:rPr>
              <a:t>D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, Q</a:t>
            </a:r>
            <a:r>
              <a:rPr b="0" i="1" lang="en-GB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 at fixe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i="1" lang="en-GB" sz="11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|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ncorrelated systematic errors can approach the level of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few 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yield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betabins" descr=""/>
          <p:cNvPicPr/>
          <p:nvPr/>
        </p:nvPicPr>
        <p:blipFill>
          <a:blip r:embed="rId1"/>
          <a:stretch/>
        </p:blipFill>
        <p:spPr>
          <a:xfrm>
            <a:off x="5610240" y="228600"/>
            <a:ext cx="3305160" cy="42670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graphicFrame>
        <p:nvGraphicFramePr>
          <p:cNvPr id="168" name=""/>
          <p:cNvGraphicFramePr/>
          <p:nvPr/>
        </p:nvGraphicFramePr>
        <p:xfrm>
          <a:off x="1371600" y="4648320"/>
          <a:ext cx="5962680" cy="176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648320"/>
                    <a:ext cx="5962680" cy="1760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Expected Result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adronic final state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pen charm p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96/97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D*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analysis yielded 46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ll HERA-I data sample: factor 2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HERA-II/VFPS expectation: 38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ffractive dijet electrop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996/97 dijet analysis yielded 250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HERA-II/VFPS expectation: 2290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ffractive dijet photop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HERA-II/VFPS expectation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Tag-6 (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= 275 GeV): 140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Tag-40 (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= 140 GeV): 20000 e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248520" y="926280"/>
            <a:ext cx="2663640" cy="2585160"/>
            <a:chOff x="6248520" y="926280"/>
            <a:chExt cx="2663640" cy="2585160"/>
          </a:xfrm>
        </p:grpSpPr>
        <p:pic>
          <p:nvPicPr>
            <p:cNvPr id="173" name="charm_fps_acc1_new" descr=""/>
            <p:cNvPicPr/>
            <p:nvPr/>
          </p:nvPicPr>
          <p:blipFill>
            <a:blip r:embed="rId1">
              <a:lum bright="-10000"/>
            </a:blip>
            <a:stretch/>
          </p:blipFill>
          <p:spPr>
            <a:xfrm>
              <a:off x="6248520" y="990720"/>
              <a:ext cx="2663640" cy="2520720"/>
            </a:xfrm>
            <a:prstGeom prst="rect">
              <a:avLst/>
            </a:prstGeom>
            <a:ln w="38160">
              <a:solidFill>
                <a:srgbClr val="660066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6705720" y="9262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open charm produ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8520" y="3750480"/>
            <a:ext cx="2663640" cy="2580480"/>
            <a:chOff x="6248520" y="3750480"/>
            <a:chExt cx="2663640" cy="2580480"/>
          </a:xfrm>
        </p:grpSpPr>
        <p:pic>
          <p:nvPicPr>
            <p:cNvPr id="176" name="jets_fps_acc1_new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6248520" y="3809880"/>
              <a:ext cx="2663640" cy="2521080"/>
            </a:xfrm>
            <a:prstGeom prst="rect">
              <a:avLst/>
            </a:prstGeom>
            <a:ln w="38160">
              <a:solidFill>
                <a:srgbClr val="660066"/>
              </a:solidFill>
              <a:miter/>
            </a:ln>
          </p:spPr>
        </p:pic>
        <p:sp>
          <p:nvSpPr>
            <p:cNvPr id="177" name=""/>
            <p:cNvSpPr/>
            <p:nvPr/>
          </p:nvSpPr>
          <p:spPr>
            <a:xfrm>
              <a:off x="6705720" y="37504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dijet electroprodu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Expected Result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zimuthal asymmet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gle between proton and electron scattering planes (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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 gives a handle on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their interference terms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5 bins with each 10,000 event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udy asymmetry as a function of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eeply Virtual Compton Scatt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nly 25 DVCS observed in 19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RA-II/VFPS expectation: 3600 events 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&gt; 8 GeV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FPS adds to H1-triggered DVCS, mostly at low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low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23880" y="2438280"/>
                <a:ext cx="6172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σ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dΔφ</m:t>
                        </m:r>
                      </m:den>
                    </m:f>
                    <m:r>
                      <m:t xml:space="preserve">∝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ε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</m:rad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φ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ε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Δ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2004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Timelin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Conclusion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VFPS mandatory to trigger diffraction at HERA-I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Very good acceptance in narrow window around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2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= 0.01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Good resolution on reconstructed proton momentum will allow exciting physics analy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160" y="41911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ESY-PRC approved the project in October 2001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ypass and VFPS construction are on schedu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nsertion in HERA machine is foreseen for early 2003 shutdow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ata taking from 2004 to 2006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048120"/>
            <a:ext cx="3808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Participating Group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143000"/>
            <a:ext cx="8534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University of Antwerp (UIA), Belg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. Anthonis, E. A. De Wolf, P. Van Meche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nter-University Institute for High Energies (ULB-VUB)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Brussels, Belg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. Favart, X. Janssen, D. Johnson, P. Marage, R. Roo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University of Hamburg II, German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. Blobel, F. Büsser, V. Jemanov, A. Meyer, B. Naroska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. Niebergall, J. Schütt, H. Spitzer, R. van St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University of Lund, Swe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. Jönsson, H. Jung, U. Mjörnm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University of Birmingham, U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. New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Diffraction Physics at HERA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ERA I (1992-2000)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rge fraction (~10%) of “large rapidity gap” ev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rong theoretical interest (understanding in QC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easurements of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GB" sz="2000" spc="-1" strike="noStrike" baseline="30000">
                <a:solidFill>
                  <a:srgbClr val="ffffff"/>
                </a:solidFill>
                <a:latin typeface="Tahoma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ncl. final states, jets, charm, excl. V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sults: soft/hard transition, gluon dominance, DGLAP consist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mitations: rapidity gap selection yields large systematic errors, low statistics, limite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easur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3160" y="41148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ERA II (2001-2006)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jor upgrade of the H1 det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gh luminosity regime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need for efficient VFPS-trig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ed for clean selection by tagging the scattered 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ed for measurement of proton momentum (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i="1" lang="en-GB" sz="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psf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029200" y="1219320"/>
            <a:ext cx="3962520" cy="487656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The H1 Forward Proton Spectrometer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orizontal station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60 m and 80 m from I.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ceptance of a few % at high |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| and low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Vertical station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 81 m and 90 m from I.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rge acceptance at low |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| and larg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easurement of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GB" sz="2200" spc="-1" strike="noStrike" baseline="30000">
                <a:solidFill>
                  <a:srgbClr val="ffffff"/>
                </a:solidFill>
                <a:latin typeface="Tahoma"/>
              </a:rPr>
              <a:t>LP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5011560"/>
          <a:ext cx="4006800" cy="1084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011560"/>
                    <a:ext cx="4006800" cy="10843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ptics_12sig" descr=""/>
          <p:cNvPicPr/>
          <p:nvPr/>
        </p:nvPicPr>
        <p:blipFill>
          <a:blip r:embed="rId1">
            <a:lum bright="-10000"/>
          </a:blip>
          <a:srcRect l="0" t="0" r="6176" b="3818"/>
          <a:stretch/>
        </p:blipFill>
        <p:spPr>
          <a:xfrm>
            <a:off x="5029200" y="1371600"/>
            <a:ext cx="3701880" cy="49100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VFPS Location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4152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VFPS location is optimised for acceptanc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220m N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Proton beam is approached horizontally (use HERA ben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ypass is needed to re-route the cold beam li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8164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= 0.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50800" y="1337760"/>
            <a:ext cx="3924000" cy="2582280"/>
            <a:chOff x="550800" y="1337760"/>
            <a:chExt cx="3924000" cy="2582280"/>
          </a:xfrm>
        </p:grpSpPr>
        <p:sp>
          <p:nvSpPr>
            <p:cNvPr id="103" name=""/>
            <p:cNvSpPr/>
            <p:nvPr/>
          </p:nvSpPr>
          <p:spPr>
            <a:xfrm rot="949800">
              <a:off x="1371600" y="1599840"/>
              <a:ext cx="2209680" cy="2057400"/>
            </a:xfrm>
            <a:prstGeom prst="roundRect">
              <a:avLst>
                <a:gd name="adj" fmla="val 39986"/>
              </a:avLst>
            </a:prstGeom>
            <a:solidFill>
              <a:srgbClr val="009999">
                <a:alpha val="50000"/>
              </a:srgbClr>
            </a:solidFill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1370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5080" y="321516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ZE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160020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358128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209680" y="1523520"/>
              <a:ext cx="7632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8560" y="190404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VF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289548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93160" y="27421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HER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228600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00" y="21326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HERA-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24440" y="1523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13600" y="373320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present F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17240" y="37332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VF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Bypass of Cold Beam Line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old section HPNL-220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-1400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dification of 10 m drift segment with easy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-1400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p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beam abov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b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-1400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orizontal bypass for helium and superconductor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63960" indent="-1400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w (warm) beam pi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809800" cy="35053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120" name="HERA_Bypass_NL_Komplett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8231040" cy="40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VFPS Detector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VFPS detectors similar to FP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 “Roman Pot” stations equippe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 scintillating fibre detectors ea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 fibre detector measures both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u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co-ordin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 fibres/light guid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8.2 photo-electrons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99.4% detection efficienc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ggered fibres propertie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fps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248520" y="380880"/>
            <a:ext cx="2752560" cy="2876760"/>
          </a:xfrm>
          <a:prstGeom prst="rect">
            <a:avLst/>
          </a:prstGeom>
          <a:ln w="0">
            <a:noFill/>
          </a:ln>
        </p:spPr>
      </p:pic>
      <p:pic>
        <p:nvPicPr>
          <p:cNvPr id="124" name="fibdet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324480" y="3809880"/>
            <a:ext cx="2613240" cy="251964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graphicFrame>
        <p:nvGraphicFramePr>
          <p:cNvPr id="125" name=""/>
          <p:cNvGraphicFramePr/>
          <p:nvPr/>
        </p:nvGraphicFramePr>
        <p:xfrm>
          <a:off x="1292400" y="4605480"/>
          <a:ext cx="3730320" cy="170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4605480"/>
                    <a:ext cx="3730320" cy="17096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Triggering Diffractive DIS at HERA-II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876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ERA-I strategy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clusive trigger based on backward calorimeter (SPACAL) and vertex requirement (MWP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ff-line rapidity gap sele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ERA-II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actor 5 increase in lumino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actor 2 increase in beam curren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clusive triggers are pre-sca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apidity gap trigger unfeasi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vel-1 VFPS trigger need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43600" y="1600200"/>
          <a:ext cx="2987640" cy="106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00200"/>
                    <a:ext cx="2987640" cy="10699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950080" y="3510000"/>
          <a:ext cx="2974680" cy="106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510000"/>
                    <a:ext cx="2974680" cy="10699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858640" y="114228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PACAL/MWPC trigger ra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7680" y="304704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V)FPS trigger r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01120" y="487584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incidence r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50080" y="5337000"/>
          <a:ext cx="2947680" cy="105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0080" y="5337000"/>
                    <a:ext cx="2947680" cy="10558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inear beam transport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Non-linear correction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2797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on-linear effects in energy deviation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GB" sz="20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2797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xtupo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2440" indent="-27972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ffset, tilted magn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cccc"/>
                </a:solidFill>
                <a:latin typeface="Tahoma"/>
              </a:rPr>
              <a:t>Simulation Studies</a:t>
            </a:r>
            <a:endParaRPr b="0" lang="en-US" sz="3800" spc="-1" strike="noStrike">
              <a:solidFill>
                <a:srgbClr val="33cc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09680" y="2209680"/>
                <a:ext cx="484524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7038000" y="1524240"/>
            <a:ext cx="125640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44" y="25708"/>
                </a:moveTo>
                <a:lnTo>
                  <a:pt x="-1361" y="4684"/>
                </a:lnTo>
              </a:path>
              <a:path w="21600" h="21600">
                <a:moveTo>
                  <a:pt x="-1361" y="0"/>
                </a:moveTo>
                <a:lnTo>
                  <a:pt x="-1361" y="216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iffra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Tahoma"/>
              </a:rPr>
              <a:t>ep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scatt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564000"/>
            <a:ext cx="1981080" cy="73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00" y="-1155"/>
                </a:moveTo>
                <a:lnTo>
                  <a:pt x="-831" y="3337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beam spre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nd divergence at I.P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670200"/>
            <a:ext cx="177192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79" y="-6244"/>
                </a:moveTo>
                <a:lnTo>
                  <a:pt x="-929" y="4684"/>
                </a:lnTo>
              </a:path>
              <a:path w="21600" h="21600">
                <a:moveTo>
                  <a:pt x="-929" y="0"/>
                </a:moveTo>
                <a:lnTo>
                  <a:pt x="-929" y="216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osition, slope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nergy at VF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19800" y="1527120"/>
            <a:ext cx="15584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03" y="25783"/>
                </a:moveTo>
                <a:lnTo>
                  <a:pt x="-1132" y="4684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beam op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ransport matr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SHEP 2002 – Rio de Janeiro, Brazil – February 4-8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erre Van Mechele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0:02:29Z</dcterms:created>
  <dc:creator>Pierre Van Mechelen</dc:creator>
  <dc:description/>
  <dc:language>en-US</dc:language>
  <cp:lastModifiedBy>Pierre Van Mechelen</cp:lastModifiedBy>
  <cp:lastPrinted>2002-01-31T19:11:25Z</cp:lastPrinted>
  <dcterms:modified xsi:type="dcterms:W3CDTF">2002-02-02T19:56:47Z</dcterms:modified>
  <cp:revision>66</cp:revision>
  <dc:subject/>
  <dc:title>A Very Forward Spectrometer for H1</dc:title>
</cp:coreProperties>
</file>